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6A4C-667C-49BC-88D6-B4DD9138A225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D1F6-70B1-4C90-A0C8-A6011016430A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27A8-3882-48EF-90CE-2C409979A116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F7A1-0470-4A9D-B2BF-59EC06CA763D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43B1-EE47-437D-A6BE-6D93B46CDBB5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D497-68A9-4C23-8D0A-ED23DF7005F7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FE29-2F45-4CBE-9D4D-739825A40BF0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0465-170E-4338-98EE-D15C55EC9F0F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03AF-5593-4EEA-BDE9-4BB26FC9AF76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9E0C-2A05-4CF2-9AC4-934A534FC25F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0BC1-0416-4A94-BC74-CFC545033E0E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88920" indent="-889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88920" indent="-889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88920" indent="-889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twitter.com/search?q=http%3A%2F%2Fwww.studyingstyle.com%2F" TargetMode="External"/><Relationship Id="rId2" Type="http://schemas.openxmlformats.org/officeDocument/2006/relationships/hyperlink" Target="http://www.studyingstyle.com/" TargetMode="External"/><Relationship Id="rId3" Type="http://schemas.openxmlformats.org/officeDocument/2006/relationships/hyperlink" Target="http://www.studyingstyle.com/tactile-kinesthetic-learners.html#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5716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24c6d"/>
                </a:solidFill>
                <a:latin typeface="Arial"/>
                <a:ea typeface="Arial"/>
              </a:rPr>
              <a:t>Three Types of Learning Styl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63640" y="2742840"/>
            <a:ext cx="11353680" cy="6070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572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b2b"/>
                </a:solidFill>
                <a:latin typeface="Verdana Bold"/>
                <a:ea typeface="Verdana Bold"/>
              </a:rPr>
              <a:t>1.  visual (learn by seeing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4572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b2b"/>
                </a:solidFill>
                <a:latin typeface="Verdana Bold"/>
                <a:ea typeface="Verdana Bold"/>
              </a:rPr>
              <a:t>2.  auditory (learn by hearing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4572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b2b"/>
                </a:solidFill>
                <a:latin typeface="Verdana Bold"/>
                <a:ea typeface="Verdana Bold"/>
              </a:rPr>
              <a:t>3.  tactile / kinesthetic (learn by doing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4572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17520">
              <a:lnSpc>
                <a:spcPct val="100000"/>
              </a:lnSpc>
              <a:spcBef>
                <a:spcPts val="2401"/>
              </a:spcBef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b2b"/>
                </a:solidFill>
                <a:latin typeface="Verdana"/>
                <a:ea typeface="Verdana"/>
              </a:rPr>
              <a:t>No-one uses only one of the styles, and at times we use all three learning styles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4572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317520" indent="-317520">
              <a:lnSpc>
                <a:spcPct val="100000"/>
              </a:lnSpc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b2b"/>
                </a:solidFill>
                <a:latin typeface="Verdana"/>
                <a:ea typeface="Verdana"/>
              </a:rPr>
              <a:t> </a:t>
            </a:r>
            <a:r>
              <a:rPr b="0" lang="en-US" sz="2000" spc="-1" strike="noStrike">
                <a:solidFill>
                  <a:srgbClr val="2b2b2b"/>
                </a:solidFill>
                <a:latin typeface="Verdana"/>
                <a:ea typeface="Verdana"/>
              </a:rPr>
              <a:t>	</a:t>
            </a:r>
            <a:r>
              <a:rPr b="0" lang="en-US" sz="2000" spc="-1" strike="noStrike">
                <a:solidFill>
                  <a:srgbClr val="2b2b2b"/>
                </a:solidFill>
                <a:latin typeface="Verdana"/>
                <a:ea typeface="Verdana"/>
              </a:rPr>
              <a:t>Each person is born with a tendency toward one style.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17520">
              <a:lnSpc>
                <a:spcPct val="100000"/>
              </a:lnSpc>
              <a:spcBef>
                <a:spcPts val="2401"/>
              </a:spcBef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b2b"/>
                </a:solidFill>
                <a:latin typeface="Verdana"/>
                <a:ea typeface="Verdana"/>
              </a:rPr>
              <a:t>Young children are all kinesthetic learners, visual and auditory skills develop later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17520">
              <a:lnSpc>
                <a:spcPct val="100000"/>
              </a:lnSpc>
              <a:spcBef>
                <a:spcPts val="2401"/>
              </a:spcBef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b2b"/>
                </a:solidFill>
                <a:latin typeface="Verdana"/>
                <a:ea typeface="Verdana"/>
              </a:rPr>
              <a:t>The dominant style may not always be the same.  It may vary or be combined with other learning styles, depending on the activity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625760" y="304560"/>
            <a:ext cx="10464480" cy="483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9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24c6d"/>
                </a:solidFill>
                <a:latin typeface="Verdana"/>
                <a:ea typeface="Verdana"/>
              </a:rPr>
              <a:t>SUGGESTIONS FOR TACTILE-KINESTHETIC LEARNER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Create a model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Demonstrate a principle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Practice a technique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Participate in simulation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Engage in hands-on activitie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Study in comfortable position, not necessarily sitting in a chair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1511"/>
                </a:solidFill>
                <a:latin typeface="Arial Bold"/>
                <a:ea typeface="Arial Bold"/>
              </a:rPr>
              <a:t>Study Tip Suggestion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Get hands on-in labs for example-don't just watch someone else do it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Use models to study-of the human brain, DNA, etc.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Draw charts or diagrams of relationship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Skim through reading material to get a rough idea of what it's about before looking for detail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Use finger or bookmark as a guide while reading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Write, copy, underline and highlight with bright color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Trace letters and words to learn spelling and to remember fact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Use the computer to edit and rewrite lecture note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Take frequent study break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Write out everything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Transfer reduced information to flashcard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Move around to learn new things (i.e. read while walking or on an exercise bike, mold a piece of clay to learn a new concept)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Work in a standing position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Study or brainstorm while walking or working out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Study with a friend or group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Use a non-distracting movement while you learn (i.e. tapping pencil, shaking foot, chewing gum, holding something)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Chew a different flavor of gum with each subject you study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Try listening to non-distracting music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Use musical rhythms for memorization pattern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Make rearranging items a physical activity (don't draw connecting arrows-put them on separate cards to physically rearrange)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Rewrite information to be remembered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Act things out (use gestures when speaking, point to material being read or discussed)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24c6d"/>
                </a:solidFill>
                <a:latin typeface="Verdana"/>
                <a:ea typeface="Verdana"/>
              </a:rPr>
              <a:t>PREFERRED TEST STYLES FOR TACTILE-KINESTHETIC LEARNERS</a:t>
            </a:r>
            <a:br>
              <a:rPr sz="1300"/>
            </a:b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Multiple choice, short definitions fill in the blank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24c6d"/>
                </a:solidFill>
                <a:latin typeface="Verdana"/>
                <a:ea typeface="Verdana"/>
              </a:rPr>
              <a:t>WORST TEST TYPE</a:t>
            </a:r>
            <a:br>
              <a:rPr sz="1300"/>
            </a:b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Long essay test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24c6d"/>
                </a:solidFill>
                <a:latin typeface="Verdana"/>
                <a:ea typeface="Verdana"/>
              </a:rPr>
              <a:t>POSSIBLE CAREER PATHS</a:t>
            </a:r>
            <a:br>
              <a:rPr sz="1300"/>
            </a:b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Dancers, physical education teachers, actors, firefighters, athletes, mime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ts val="1397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ts val="1599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 Bold"/>
                <a:ea typeface="Arial Bold"/>
                <a:hlinkClick r:id="rId1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ts val="3399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RL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www.studyingstyle.c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has been shared 4 times.View these Tweets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ts val="1599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9999"/>
                </a:solidFill>
                <a:uFillTx/>
                <a:latin typeface="Verdana"/>
                <a:ea typeface="Verdana"/>
                <a:hlinkClick r:id="rId3"/>
              </a:rPr>
              <a:t>Share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ts val="1599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24c6d"/>
                </a:solidFill>
                <a:latin typeface="Arial"/>
                <a:ea typeface="Arial"/>
              </a:rPr>
              <a:t>Search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c7c7c7"/>
                </a:solidFill>
                <a:latin typeface="Verdana"/>
                <a:ea typeface="Verdana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Verdana"/>
              </a:rPr>
              <a:t>Web</a:t>
            </a: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Verdana"/>
              </a:rPr>
              <a:t>StudyingStyle</a:t>
            </a: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fffeee"/>
                </a:solidFill>
                <a:uFillTx/>
                <a:latin typeface="Arial"/>
                <a:ea typeface="Arial"/>
              </a:rPr>
              <a:t>Learning Styles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hy is it important?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hree Learning Style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earning Style quiz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Visual Learner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uditory Learner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actile-Kinesthetic Learner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dvice for Parent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 Bold"/>
                <a:ea typeface="Arial Bold"/>
              </a:rPr>
              <a:t>Ads by Googl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ts val="1599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  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HD Study Onlin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ts val="1599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ts val="1599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  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earner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ts val="1599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ts val="1599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  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asters Study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ts val="1599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ts val="1599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  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ance Study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ts val="1599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58720" y="-360"/>
            <a:ext cx="1196352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24c6d"/>
                </a:solidFill>
                <a:latin typeface="Arial"/>
                <a:ea typeface="Arial"/>
              </a:rPr>
              <a:t>Why should you know your learning style?</a:t>
            </a:r>
            <a:br>
              <a:rPr sz="1900"/>
            </a:b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168560" y="1828440"/>
            <a:ext cx="10464480" cy="746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2b2b2b"/>
              </a:buClr>
              <a:buSzPct val="171000"/>
              <a:buFont typeface="Gill Sans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b2b"/>
                </a:solidFill>
                <a:latin typeface="Verdana"/>
                <a:ea typeface="Verdana"/>
              </a:rPr>
              <a:t>You are a unique learner.  No one else learns in exactly the same way you do.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2b2b2b"/>
              </a:buClr>
              <a:buSzPct val="171000"/>
              <a:buFont typeface="Gill Sans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b2b"/>
                </a:solidFill>
                <a:latin typeface="Verdana"/>
                <a:ea typeface="Verdana"/>
              </a:rPr>
              <a:t>There are many benefits to discovering how you process information best.  Some of these include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4c6d"/>
                </a:solidFill>
                <a:latin typeface="Verdana"/>
                <a:ea typeface="Verdana"/>
              </a:rPr>
              <a:t>At School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2b"/>
                </a:solidFill>
                <a:latin typeface="Verdana"/>
                <a:ea typeface="Verdana"/>
              </a:rPr>
              <a:t>gives you a head start and maximizes your learning potentia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2b"/>
                </a:solidFill>
                <a:latin typeface="Verdana"/>
                <a:ea typeface="Verdana"/>
              </a:rPr>
              <a:t>enables you to succeed in school, college, university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2b"/>
                </a:solidFill>
                <a:latin typeface="Verdana"/>
                <a:ea typeface="Verdana"/>
              </a:rPr>
              <a:t>gives you customized techniques to score better on tests and exam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2b"/>
                </a:solidFill>
                <a:latin typeface="Verdana"/>
                <a:ea typeface="Verdana"/>
              </a:rPr>
              <a:t>allows you to learn “your way” – through your own best strategi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2b"/>
                </a:solidFill>
                <a:latin typeface="Verdana"/>
                <a:ea typeface="Verdana"/>
              </a:rPr>
              <a:t>shows you how to overcome the limitations of poor instructor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2b"/>
                </a:solidFill>
                <a:latin typeface="Verdana"/>
                <a:ea typeface="Verdana"/>
              </a:rPr>
              <a:t>reduces the stress and frustration of learning experienc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2b"/>
                </a:solidFill>
                <a:latin typeface="Verdana"/>
                <a:ea typeface="Verdana"/>
              </a:rPr>
              <a:t>expands your existing learning and studying strategi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lnSpc>
                <a:spcPct val="100000"/>
              </a:lnSpc>
              <a:buNone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4c6d"/>
                </a:solidFill>
                <a:latin typeface="Verdana"/>
                <a:ea typeface="Verdana"/>
              </a:rPr>
              <a:t>Personal Life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buClr>
                <a:srgbClr val="2b2b2b"/>
              </a:buClr>
              <a:buFont typeface="Gill Sans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b2b"/>
                </a:solidFill>
                <a:latin typeface="Verdana"/>
                <a:ea typeface="Verdana"/>
              </a:rPr>
              <a:t>	</a:t>
            </a:r>
            <a:r>
              <a:rPr b="0" lang="en-US" sz="1800" spc="-1" strike="noStrike">
                <a:solidFill>
                  <a:srgbClr val="2b2b2b"/>
                </a:solidFill>
                <a:latin typeface="Verdana"/>
                <a:ea typeface="Verdana"/>
              </a:rPr>
              <a:t>increases your self-confidenc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2b"/>
                </a:solidFill>
                <a:latin typeface="Verdana"/>
                <a:ea typeface="Verdana"/>
              </a:rPr>
              <a:t>improves your self-imag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2b"/>
                </a:solidFill>
                <a:latin typeface="Verdana"/>
                <a:ea typeface="Verdana"/>
              </a:rPr>
              <a:t>teaches you how to use your brain bes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2b"/>
                </a:solidFill>
                <a:latin typeface="Verdana"/>
                <a:ea typeface="Verdana"/>
              </a:rPr>
              <a:t>gives you insight into your strengths, weaknesses and habit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2b"/>
                </a:solidFill>
                <a:latin typeface="Verdana"/>
                <a:ea typeface="Verdana"/>
              </a:rPr>
              <a:t>enables you to enjoy any learning proces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2b"/>
                </a:solidFill>
                <a:latin typeface="Verdana"/>
                <a:ea typeface="Verdana"/>
              </a:rPr>
              <a:t>inspires greater curiosity, motivation for lifelong learning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2b"/>
                </a:solidFill>
                <a:latin typeface="Verdana"/>
                <a:ea typeface="Verdana"/>
              </a:rPr>
              <a:t>shows you how to take advantage of your natural skills &amp; inclination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lnSpc>
                <a:spcPct val="100000"/>
              </a:lnSpc>
              <a:buNone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44160" y="0"/>
            <a:ext cx="10464840" cy="228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Visual Learners</a:t>
            </a:r>
            <a:br>
              <a:rPr sz="84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ake up about 65% of popula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168560" y="2666520"/>
            <a:ext cx="1046448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1511"/>
                </a:solidFill>
                <a:latin typeface="Arial Bold"/>
                <a:ea typeface="Arial Bold"/>
              </a:rPr>
              <a:t>Clues This Is Your Learning Style: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Need to be able to see the inform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Difficulty following spoken directions (prefers written directions)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Strong sense of color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May be easily distracted by sound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Trouble following lec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Misunderstands or misinterprets spoken materia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Tends to think in images or pictures (even visualizes notes or outlines)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Artistic talent in the visual art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Often have vivid imagination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Needs something to watch so may tend to star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Often quiet or not lengthy talker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Becomes impatient or drifts away when extensive listening required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Learns by seeing and watching demonstration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Tends to conform to classroom standards (such as sitting quietly, writing neatly, organizing materials)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Effective in written communication, symbol manipulation, etc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244160" y="533160"/>
            <a:ext cx="10464840" cy="2235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Visual Learners</a:t>
            </a:r>
            <a:br>
              <a:rPr sz="8400"/>
            </a:b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35040" y="1523880"/>
            <a:ext cx="11506320" cy="822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eorgia"/>
                <a:ea typeface="Verdana"/>
              </a:rPr>
              <a:t>TIPS FOR VISUAL LEARNERS: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2b2b2b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b2b"/>
                </a:solidFill>
                <a:latin typeface="Georgia"/>
                <a:ea typeface="Verdana"/>
              </a:rPr>
              <a:t>Write things down!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2b2b2b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b2b"/>
                </a:solidFill>
                <a:latin typeface="Georgia"/>
                <a:ea typeface="Verdana"/>
              </a:rPr>
              <a:t>Jot down key points on post-it notes and display around the hous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2b2b2b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b2b"/>
                </a:solidFill>
                <a:latin typeface="Georgia"/>
                <a:ea typeface="Verdana"/>
              </a:rPr>
              <a:t>Copy what's on the boar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2b2b2b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b2b"/>
                </a:solidFill>
                <a:latin typeface="Georgia"/>
                <a:ea typeface="Verdana"/>
              </a:rPr>
              <a:t>Sit near the front of the classroom to see instructor clearl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2b2b2b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Look at professors and others when they talk to help you focus and to pick up on body languag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2b2b2b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b2b"/>
                </a:solidFill>
                <a:latin typeface="Georgia"/>
                <a:ea typeface="Verdana"/>
              </a:rPr>
              <a:t>Write key word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2b2b2b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b2b"/>
                </a:solidFill>
                <a:latin typeface="Georgia"/>
                <a:ea typeface="Verdana"/>
              </a:rPr>
              <a:t>Use outlines to summarize large amounts of informa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2b2b2b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b2b"/>
                </a:solidFill>
                <a:latin typeface="Georgia"/>
                <a:ea typeface="Verdana"/>
              </a:rPr>
              <a:t>Use highlighters, underlining, circling, etc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2b2b2b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b2b"/>
                </a:solidFill>
                <a:latin typeface="Georgia"/>
              </a:rPr>
              <a:t>Draw pictures in notes to illustrate ideas (maps, sketches, lists, diagrams, etc.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2b2b2b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b2b"/>
                </a:solidFill>
                <a:latin typeface="Georgia"/>
                <a:ea typeface="Verdana"/>
              </a:rPr>
              <a:t>Watch video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2b2b2b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Borrow others' notes, compare to ow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2b2b2b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Use a plastic cover with erasable markers to label diagrams over and over, or to test yourself writing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answers to question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2b2b2b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Rewrite or redraw things from memor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Visualize spelling of words or facts to be memorize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Make and use flashcards for studying (vocabulary, formulas, condensed notes, etc.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Use computers to organize material and to create graphs, tables, chart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Study in a quiet place away from verbal disturbanc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Make your study area visually appealing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320480" y="609120"/>
            <a:ext cx="10464840" cy="143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Visual Learner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29760" y="2361960"/>
            <a:ext cx="12268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0000"/>
          </a:bodyPr>
          <a:p>
            <a:pPr algn="ctr">
              <a:lnSpc>
                <a:spcPct val="100000"/>
              </a:lnSpc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Verdana"/>
                <a:ea typeface="Verdana"/>
              </a:rPr>
              <a:t>PREFERRED TEST STYLES FOR VISUAL LEARNER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b2b2b"/>
                </a:solidFill>
                <a:latin typeface="Verdana"/>
                <a:ea typeface="Verdana"/>
              </a:rPr>
              <a:t>Essays, Diagramming, Maps, Demonstrating a proces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Verdana"/>
                <a:ea typeface="Verdana"/>
              </a:rPr>
              <a:t>WORST TEST TYPE</a:t>
            </a:r>
            <a:br>
              <a:rPr sz="3600"/>
            </a:br>
            <a:r>
              <a:rPr b="0" lang="en-US" sz="3600" spc="-1" strike="noStrike">
                <a:solidFill>
                  <a:srgbClr val="2b2b2b"/>
                </a:solidFill>
                <a:latin typeface="Verdana"/>
                <a:ea typeface="Verdana"/>
              </a:rPr>
              <a:t>Listen and respond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Verdana"/>
                <a:ea typeface="Verdana"/>
              </a:rPr>
              <a:t>POSSIBLE CAREER PATHS</a:t>
            </a:r>
            <a:br>
              <a:rPr sz="3600"/>
            </a:br>
            <a:r>
              <a:rPr b="0" lang="en-US" sz="3600" spc="-1" strike="noStrike">
                <a:solidFill>
                  <a:srgbClr val="2b2b2b"/>
                </a:solidFill>
                <a:latin typeface="Verdana"/>
                <a:ea typeface="Verdana"/>
              </a:rPr>
              <a:t>visual artists, inventors, architects, interior designers, mechanics, engineers, navigators, sculptor</a:t>
            </a:r>
            <a:r>
              <a:rPr b="0" lang="en-US" sz="2800" spc="-1" strike="noStrike">
                <a:solidFill>
                  <a:srgbClr val="2b2b2b"/>
                </a:solidFill>
                <a:latin typeface="Verdana"/>
                <a:ea typeface="Verdan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472760" y="609120"/>
            <a:ext cx="10464840" cy="1638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224c6d"/>
                </a:solidFill>
                <a:latin typeface="Arial"/>
                <a:ea typeface="Arial"/>
              </a:rPr>
              <a:t>Auditory Learners</a:t>
            </a:r>
            <a:br>
              <a:rPr sz="1900"/>
            </a:br>
            <a:r>
              <a:rPr b="0" lang="en-US" sz="2400" spc="-1" strike="noStrike">
                <a:solidFill>
                  <a:srgbClr val="2b2b2b"/>
                </a:solidFill>
                <a:latin typeface="Verdana"/>
                <a:ea typeface="Verdana"/>
              </a:rPr>
              <a:t>Making up about 30% of the population, </a:t>
            </a:r>
            <a:r>
              <a:rPr b="0" lang="en-US" sz="2400" spc="-1" strike="noStrike">
                <a:solidFill>
                  <a:srgbClr val="2b2b2b"/>
                </a:solidFill>
                <a:latin typeface="Verdana Bold"/>
                <a:ea typeface="Verdana Bold"/>
              </a:rPr>
              <a:t>auditory learners</a:t>
            </a:r>
            <a:r>
              <a:rPr b="0" lang="en-US" sz="2400" spc="-1" strike="noStrike">
                <a:solidFill>
                  <a:srgbClr val="2b2b2b"/>
                </a:solidFill>
                <a:latin typeface="Verdana"/>
                <a:ea typeface="Verdana"/>
              </a:rPr>
              <a:t> absorb information best through the sense of hearing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397160" y="2361960"/>
            <a:ext cx="10464480" cy="11125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1511"/>
                </a:solidFill>
                <a:latin typeface="Arial Bold"/>
                <a:ea typeface="Arial Bold"/>
              </a:rPr>
              <a:t>Clues This Is Your Learning Style: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Excellent listener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Prefers to get information by listening- needs to hear it or speak it to know i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Written directions more difficult to follow than spoken on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Prefers listening to reading or writing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Has difficulty reading body language and facial expression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Can reproduce symbols, letters or words by hearing them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Good at telling  jokes and stori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Enjoys plays, discussions &amp; debat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Loves music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Can learn concepts by listening to tap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Often hum s, sings or talks to self or other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Can repeat or fulfill verbal instruction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Learning phonics helpful to reading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Tends to listen first to lecture and then take not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Written information may have little meaning unless read aloud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Solves problems by talking about them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Likes class discussions but can be easily distracted by nois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2b"/>
                </a:solidFill>
                <a:latin typeface="Verdana"/>
                <a:ea typeface="Verdana"/>
              </a:rPr>
              <a:t>Enjoys talking to others, talkative in clas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2b"/>
                </a:solidFill>
                <a:latin typeface="Verdana"/>
                <a:ea typeface="Verdana"/>
              </a:rPr>
              <a:t>Prefer giving oral reports to written on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2b"/>
                </a:solidFill>
                <a:latin typeface="Verdana"/>
                <a:ea typeface="Verdana"/>
              </a:rPr>
              <a:t>Remember who said what in the pas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2b"/>
                </a:solidFill>
                <a:latin typeface="Verdana"/>
                <a:ea typeface="Verdana"/>
              </a:rPr>
              <a:t>Tend to memorize wel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2b"/>
                </a:solidFill>
                <a:latin typeface="Verdana"/>
                <a:ea typeface="Verdana"/>
              </a:rPr>
              <a:t>Prefer listening to the news 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2b"/>
                </a:solidFill>
                <a:latin typeface="Verdana"/>
                <a:ea typeface="Verdana"/>
              </a:rPr>
              <a:t>Remember nam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2b"/>
                </a:solidFill>
                <a:latin typeface="Verdana"/>
                <a:ea typeface="Verdana"/>
              </a:rPr>
              <a:t>Notices sound effects in movi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2b"/>
                </a:solidFill>
                <a:latin typeface="Verdana"/>
                <a:ea typeface="Verdana"/>
              </a:rPr>
              <a:t>Doesn’t automatically understand graphs, diagrams or map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2b"/>
                </a:solidFill>
                <a:latin typeface="Verdana"/>
                <a:ea typeface="Verdana"/>
              </a:rPr>
              <a:t>May use finger as pointer when reading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2b"/>
                </a:solidFill>
                <a:latin typeface="Verdana"/>
                <a:ea typeface="Verdana"/>
              </a:rPr>
              <a:t>Is good at grammar and foreign languag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2b"/>
                </a:solidFill>
                <a:latin typeface="Verdana"/>
                <a:ea typeface="Verdana"/>
              </a:rPr>
              <a:t>Repeat phone numbers in order to repeat them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2b"/>
                </a:solidFill>
                <a:latin typeface="Verdana"/>
                <a:ea typeface="Verdana"/>
              </a:rPr>
              <a:t>Uses jingles to remember pieces of inform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2b"/>
                </a:solidFill>
                <a:latin typeface="Verdana"/>
                <a:ea typeface="Verdana"/>
              </a:rPr>
              <a:t>Benefits from study group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2b"/>
                </a:solidFill>
                <a:latin typeface="Verdana"/>
                <a:ea typeface="Verdana"/>
              </a:rPr>
              <a:t>Prefers to listen to music rather than view a piece of a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2b"/>
                </a:solidFill>
                <a:latin typeface="Verdana"/>
                <a:ea typeface="Verdana"/>
              </a:rPr>
              <a:t>Reads slowly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2b"/>
                </a:solidFill>
                <a:latin typeface="Verdana"/>
                <a:ea typeface="Verdana"/>
              </a:rPr>
              <a:t>May be articulate speaker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2b"/>
                </a:solidFill>
                <a:latin typeface="Verdana"/>
                <a:ea typeface="Verdana"/>
              </a:rPr>
              <a:t>Can’t keep quiet for long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320480" y="228600"/>
            <a:ext cx="1046484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24c6d"/>
                </a:solidFill>
                <a:latin typeface="Arial"/>
                <a:ea typeface="Arial"/>
              </a:rPr>
              <a:t>Auditory Learners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44160" y="1600200"/>
            <a:ext cx="10464840" cy="7099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1511"/>
                </a:solidFill>
                <a:latin typeface="Arial Bold"/>
                <a:ea typeface="Arial Bold"/>
              </a:rPr>
              <a:t>Study Tip Suggestion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Study in groups and talk things out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Get a small tape recorder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Record lectures, tutoring and study groups (makes a verbal record for review)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Reduce lecture notes to main ideas (3:1) and put them on tap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Read texts out loud or into recorder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Listen to lecture/text tapes while driving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Dictate papers, to be typed later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Read questions aloud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Work out problems aloud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Sit in the front of the cla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Learn by participating in class discussions and debate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Make speeches and presentation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Create musical jingles or mnemonics to aid memorization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Use verbal analogies and story telling to demonstrate your point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Read explanations out loud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To learn a sequence of steps, write them out in sentences, then read them aloud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Explain ideas to other peopl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Recite, recite, recit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Discuss your ideas verbally whenever possible, even if you're having a conversation with yourself!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Use audiotapes for learning language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Read textbooks aloud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Repeat facts with eyes closed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Ask question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Describe aloud what is to be remembered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Use word association to remember facts and lines.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Watch videos.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Participate in group discussions.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Listen to taped note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Record lectures &amp; listen to them again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Use audiotape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Avoid auditory distractions.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44160" y="837720"/>
            <a:ext cx="104648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Auditory Learner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1320480" y="2590560"/>
            <a:ext cx="104648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1000"/>
          </a:bodyPr>
          <a:p>
            <a:pPr algn="ctr">
              <a:lnSpc>
                <a:spcPct val="100000"/>
              </a:lnSpc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Verdana"/>
                <a:ea typeface="Verdana"/>
              </a:rPr>
              <a:t>PREFERRED TEST STYLES FOR AUDITORY LEARNERS</a:t>
            </a:r>
            <a:br>
              <a:rPr sz="3600"/>
            </a:br>
            <a:r>
              <a:rPr b="0" lang="en-US" sz="3600" spc="-1" strike="noStrike">
                <a:solidFill>
                  <a:srgbClr val="2b2b2b"/>
                </a:solidFill>
                <a:latin typeface="Verdana"/>
                <a:ea typeface="Verdana"/>
              </a:rPr>
              <a:t>Writing responses to lectures, oral exam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Verdana"/>
                <a:ea typeface="Verdana"/>
              </a:rPr>
              <a:t>WORST TEST TYPE</a:t>
            </a:r>
            <a:br>
              <a:rPr sz="3600"/>
            </a:br>
            <a:r>
              <a:rPr b="0" lang="en-US" sz="3600" spc="-1" strike="noStrike">
                <a:solidFill>
                  <a:srgbClr val="2b2b2b"/>
                </a:solidFill>
                <a:latin typeface="Verdana"/>
                <a:ea typeface="Verdana"/>
              </a:rPr>
              <a:t>Reading comprehension exercise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Verdana"/>
                <a:ea typeface="Verdana"/>
              </a:rPr>
              <a:t>POSSIBLE CAREER PATHS</a:t>
            </a:r>
            <a:br>
              <a:rPr sz="3600"/>
            </a:br>
            <a:r>
              <a:rPr b="0" lang="en-US" sz="3600" spc="-1" strike="noStrike">
                <a:solidFill>
                  <a:srgbClr val="2b2b2b"/>
                </a:solidFill>
                <a:latin typeface="Verdana"/>
                <a:ea typeface="Verdana"/>
              </a:rPr>
              <a:t>Writer, journalist, teacher, lawyer, politician, blogger, translator, poe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69720" y="1638000"/>
            <a:ext cx="10464840" cy="11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24c6d"/>
                </a:solidFill>
                <a:latin typeface="Arial"/>
                <a:ea typeface="Arial"/>
              </a:rPr>
              <a:t>Tactile-Kinesthetic Learners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69720" y="1942920"/>
            <a:ext cx="10464840" cy="796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0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Making up about 5% of the population, tactile and kinesthetic learners absorb information best by doing, experiencing, touching, moving or being active in some way.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Enjoy feeling, discovery and action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Remember by using tools, building models and manipulating thing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Learn through emotions, touch, movement and space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Enjoy demonstrations of concept demonstration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Master skills through imitation and practice.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Benefit from hands-on teaching technique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Find it difficult to sit still for long periods of time.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Remember who did what in the past, rather than what they said or how they looked.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Prefer to stand, walk about or use large motor muscles when learning.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Learn well from field trips and excursions.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Tends to collect thing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Do not have good handwriting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Are weaker at spelling.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Talk fast using hands to communicate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Benefit from role-playing and simulation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Enjoy having background music while studying or working.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Good at sport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Take frequent breaks when studying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Think in terms of physical action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May play a musical instrument.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Enjoy exploring the environment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Participates in martial arts, dance.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Can grasp concepts when abstract theories are combined with practical experience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Enjoy science experiments, construction games, arts ad craft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Could be considered hyperactive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More relaxed and open to learning in a beanbag than a hard chair.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Good internal compass for finding their way around.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Get restless during long lecture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Comfortable touching others as a gesture of friendship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Prefer participating actively rather than watching  video or reading from a book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Learn more effectively when free to move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Studies effectively laying on floor or bed, fidgeting, tapping fingers or touching object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1511"/>
                </a:solidFill>
                <a:latin typeface="Arial Bold"/>
                <a:ea typeface="Arial Bold"/>
              </a:rPr>
              <a:t>Clues to Styl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Preference for hands on learning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Can assemble parts without reading direction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Needs to be able to touch or manipulate what is being learned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Prefers to study with a pen or pencil in hand to write things down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Benefits from pictures or diagrams in note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Usually don't have visuals in mind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Tends to be less organized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Sense of time difficult because they work better in the present moment rather than seeing the futur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Difficulty sitting still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Focusing and listening to a lecture without doing something is difficult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Usually takes notes and likes to write on board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Likes to do artwork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Likes to piece things together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Responds to music by physical movement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Often found doodling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Learning is more effective when physical activity is involved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Learns skills by imitation and practic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Likes to trace words and picture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Often seen "fiddling" with something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Tasks that require manipulating something usually more successful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Strong athletic talent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bowlek</cp:lastModifiedBy>
  <dcterms:modified xsi:type="dcterms:W3CDTF">2011-09-07T21:13:16Z</dcterms:modified>
  <cp:revision>33</cp:revision>
  <dc:subject/>
  <dc:title>Three Types of Learning Styles</dc:title>
</cp:coreProperties>
</file>